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E4B3-9B14-41CA-850C-F3FCB592D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AE32-E270-4C4F-98F3-89BE5B721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82C6-9E2E-4885-8EFC-5E4EBC849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8F22-BE2A-4D59-A740-FE2A44FC4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0637-8BA2-4B58-972E-5EED5BBEF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E760-373F-4A0B-AB1D-13C15B1E8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2287-A7F3-4676-AEF9-E529303ED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3E1F-D14C-4636-861C-2B4933211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E4F1-9CBE-469C-AEF5-2EDA6B4A4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F360-B89F-42DF-9A48-A17DED26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402A-B6C1-4A7F-8DCE-99CCDF5A4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FF31-AE04-48F6-BD9D-79D6ADA8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E7FF6-771F-42EA-8977-2896101D79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duke.usask.ca/~lowey/bad_hair_day/left.jpg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reeze.wav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66ff"/>
                </a:solidFill>
                <a:latin typeface="Arial"/>
              </a:rPr>
              <a:t>Work place communication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Greg Cheeth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827280" y="548280"/>
            <a:ext cx="742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ff"/>
                </a:solidFill>
                <a:latin typeface="Arial"/>
              </a:rPr>
              <a:t>ACTIVE LISTENING SKIL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320" y="1326960"/>
            <a:ext cx="90676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71520" indent="-371520">
              <a:buClr>
                <a:srgbClr val="000000"/>
              </a:buClr>
              <a:buFont typeface="Arial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talk, it is not possible to talk and listen at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buClr>
                <a:srgbClr val="000000"/>
              </a:buClr>
              <a:buFont typeface="Arial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y attention, make eye contact with the talke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't be distra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buClr>
                <a:srgbClr val="000000"/>
              </a:buClr>
              <a:buFont typeface="Arial"/>
              <a:buAutoNum type="roman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o put yourself in the talker's shoes to enable          better understan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buClr>
                <a:srgbClr val="000000"/>
              </a:buClr>
              <a:buFont typeface="Arial"/>
              <a:buAutoNum type="roman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notes if the information is complex or exact    details are requi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334800"/>
            <a:ext cx="9144000" cy="61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spcBef>
                <a:spcPts val="1749"/>
              </a:spcBef>
              <a:buClr>
                <a:srgbClr val="000000"/>
              </a:buClr>
              <a:buFont typeface="Arial"/>
              <a:buAutoNum type="roman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interrupt, be patient and ask questions when the talker has finish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vi)Be aware of non-verbal c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749"/>
              </a:spcBef>
              <a:buClr>
                <a:srgbClr val="000000"/>
              </a:buClr>
              <a:buFont typeface="Arial"/>
              <a:buAutoNum type="roman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open questions only to check understanding, try and obtain as much information as possible from the contex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749"/>
              </a:spcBef>
              <a:buClr>
                <a:srgbClr val="000000"/>
              </a:buClr>
              <a:buFont typeface="Arial"/>
              <a:buAutoNum type="romanL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eedback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how you have interpreted the information correctly when the talker has finish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08400" y="475200"/>
            <a:ext cx="795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SOME BARRIERS TO COMMUNICATION</a:t>
            </a:r>
            <a:r>
              <a:rPr b="0" lang="en-US" sz="1800" spc="-1" strike="noStrike">
                <a:solidFill>
                  <a:srgbClr val="3399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08640" y="1196280"/>
            <a:ext cx="21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ysical Barr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09400" y="4004640"/>
            <a:ext cx="14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att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083200" y="1772640"/>
            <a:ext cx="131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o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88360" y="5876280"/>
            <a:ext cx="27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ividual Differenc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2952720" cy="17398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6659640" y="1484280"/>
            <a:ext cx="1461960" cy="19447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onethumb &gt; Distracted"/>
          <p:cNvPicPr/>
          <p:nvPr/>
        </p:nvPicPr>
        <p:blipFill>
          <a:blip r:embed="rId3"/>
          <a:stretch/>
        </p:blipFill>
        <p:spPr>
          <a:xfrm>
            <a:off x="611280" y="4292640"/>
            <a:ext cx="2881080" cy="19494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4932360" y="3645000"/>
            <a:ext cx="2533680" cy="20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203640" y="122400"/>
            <a:ext cx="5267160" cy="67356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24000" y="620640"/>
            <a:ext cx="2447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ff"/>
                </a:solidFill>
                <a:latin typeface="Arial"/>
              </a:rPr>
              <a:t>Is it a young lady with a feather looking away from you or no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971640" y="2708280"/>
            <a:ext cx="6985080" cy="24591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826920" y="333360"/>
            <a:ext cx="7129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Expectations can stop you from seeing something that might otherwise be quite obvio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042920" y="2743200"/>
            <a:ext cx="6808680" cy="226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1520" y="274680"/>
            <a:ext cx="734508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NON-VERBAL COMMUN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33400" y="1843920"/>
            <a:ext cx="199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dy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573000" y="1843920"/>
            <a:ext cx="47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ysical Characteristics and Appea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26920" y="2492280"/>
            <a:ext cx="2040120" cy="3024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40360" y="2924280"/>
            <a:ext cx="3473280" cy="260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Carrie Anne Moss has her personal space encroached on by Monica Bellucci at the Hollywood premiere of Warner Brothers' The Matrix: Reloaded"/>
          <p:cNvPicPr/>
          <p:nvPr/>
        </p:nvPicPr>
        <p:blipFill>
          <a:blip r:embed="rId1"/>
          <a:stretch/>
        </p:blipFill>
        <p:spPr>
          <a:xfrm>
            <a:off x="4788000" y="907920"/>
            <a:ext cx="3003480" cy="4602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39640" y="765000"/>
            <a:ext cx="3527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istance we space between ourselves and others conveys a message.  This varies from “intimate distances” with people we are close to, to “social distance” with strang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67280" y="0"/>
            <a:ext cx="4762440" cy="66387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68360" y="2349360"/>
            <a:ext cx="2879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Changes in volume, pitch and quality tell us something by the way words are said not what is sai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4360" y="549360"/>
            <a:ext cx="27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The Vo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54040" y="401040"/>
            <a:ext cx="787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mbols, Signs, Visual Displays and Sig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547640" y="1484280"/>
            <a:ext cx="5977080" cy="39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3961080" cy="2684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148360" y="1268280"/>
            <a:ext cx="3816360" cy="2692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76360" y="472428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Se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867280" y="4797360"/>
            <a:ext cx="17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19280" y="620640"/>
            <a:ext cx="6624720" cy="863640"/>
          </a:xfrm>
          <a:custGeom>
            <a:avLst/>
            <a:gdLst>
              <a:gd name="textAreaLeft" fmla="*/ 1159200 w 6624720"/>
              <a:gd name="textAreaRight" fmla="*/ 4803120 w 6624720"/>
              <a:gd name="textAreaTop" fmla="*/ 115560 h 863640"/>
              <a:gd name="textAreaBottom" fmla="*/ 748080 h 863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2360" y="119700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Arial"/>
              </a:rPr>
              <a:t>Mess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3961080" cy="2684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148360" y="1268280"/>
            <a:ext cx="3816360" cy="2692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547640" y="350028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Se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500280"/>
            <a:ext cx="17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19280" y="620640"/>
            <a:ext cx="6624720" cy="863640"/>
          </a:xfrm>
          <a:custGeom>
            <a:avLst/>
            <a:gdLst>
              <a:gd name="textAreaLeft" fmla="*/ 1159200 w 6624720"/>
              <a:gd name="textAreaRight" fmla="*/ 4803120 w 6624720"/>
              <a:gd name="textAreaTop" fmla="*/ 115560 h 863640"/>
              <a:gd name="textAreaBottom" fmla="*/ 748080 h 863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92360" y="119700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Arial"/>
              </a:rPr>
              <a:t>Mess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0800000">
            <a:off x="394920" y="4869000"/>
            <a:ext cx="7777080" cy="1511280"/>
          </a:xfrm>
          <a:custGeom>
            <a:avLst/>
            <a:gdLst>
              <a:gd name="textAreaLeft" fmla="*/ 1360800 w 7777080"/>
              <a:gd name="textAreaRight" fmla="*/ 5638320 w 7777080"/>
              <a:gd name="textAreaTop" fmla="*/ 202320 h 1511280"/>
              <a:gd name="textAreaBottom" fmla="*/ 1308960 h 1511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42c5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92360" y="458136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Feed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4880160" cy="6669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68360" y="981000"/>
            <a:ext cx="2808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The object of good communication, is to ensure that the “understanding” of the receiver is as close as possible to the “meaning” of the sen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920" y="2818440"/>
            <a:ext cx="85341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To make contact with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To exchange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To influence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To solve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808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42c57"/>
                </a:solidFill>
                <a:latin typeface="Arial"/>
              </a:rPr>
              <a:t>Effective communication 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42c57"/>
                </a:solidFill>
                <a:latin typeface="Arial"/>
              </a:rPr>
              <a:t>essential for the following reas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71640" y="2349360"/>
            <a:ext cx="7308720" cy="389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900000" y="54936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Are we all thinking the same w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27240" y="5007960"/>
            <a:ext cx="8634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Communication failure breakdown is often caused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71640" y="189000"/>
            <a:ext cx="6337080" cy="495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50920" y="527400"/>
            <a:ext cx="85960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99ff"/>
                </a:solidFill>
                <a:latin typeface="Arial"/>
              </a:rPr>
              <a:t>Not being clear about what you want to say ie organise your though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99ff"/>
                </a:solidFill>
                <a:latin typeface="Arial"/>
              </a:rPr>
              <a:t>Forcing your own ideas on someone without considering the other pers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99ff"/>
                </a:solidFill>
                <a:latin typeface="Arial"/>
              </a:rPr>
              <a:t>Not speaking clear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99ff"/>
                </a:solidFill>
                <a:latin typeface="Arial"/>
              </a:rPr>
              <a:t>Being vague, not giving concrete examples or enough infor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99ff"/>
                </a:solidFill>
                <a:latin typeface="Arial"/>
              </a:rPr>
              <a:t>Pretending or exaggera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685800"/>
            <a:ext cx="9144000" cy="52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Thinking the other person understands something because you 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Your words do not match up with how you are looking or soun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Not checking that the other person has underst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Speaking in a flat, monotonous, boring v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0T00:55:27Z</dcterms:created>
  <dc:creator>gcheetham</dc:creator>
  <dc:description/>
  <dc:language>en-US</dc:language>
  <cp:lastModifiedBy>GREG CHEETHAM</cp:lastModifiedBy>
  <dcterms:modified xsi:type="dcterms:W3CDTF">2008-03-08T03:16:16Z</dcterms:modified>
  <cp:revision>5</cp:revision>
  <dc:subject/>
  <dc:title>Work place communications</dc:title>
</cp:coreProperties>
</file>